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080" y="685800"/>
            <a:ext cx="47754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89917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2B9D-45F2-4CDD-BEA9-FFA763D8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2203-DD3B-4779-80F4-97A450167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BA3-DCB1-494E-9B6B-FF7D974B8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4AAE-1DE7-4625-BA80-9F4A4EA79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8BD6-C2D4-4506-9838-46125BA41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43A4-AF88-4113-B4BB-1285FDB4E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D097-1AD2-4808-B68B-A622FE5B9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CC54-0371-4368-9FCB-9B711D49A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04FE-6B30-4699-B1DA-A66645693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14D-D16E-416B-8D3B-FAC6EEEE8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77A5-43CA-49A4-BE54-9CC6B17F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DDEF-DA09-49A3-8DD0-611669B9F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B3C-259F-48F1-A573-17378C22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7253-FECC-48D8-9C47-6A60C5648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100-A38D-44AB-8059-D0A7CE62B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7552-4FDA-4D60-9D9B-FC6777D17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030D-9200-4CEB-ACCC-5ADCF73AE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777-50A8-4053-B476-FECCCA9C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0326-A0BE-4A94-9F5A-A954FA4AA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31B8-B253-4117-8166-2A98FD64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4C5B-44BC-4826-A51A-2AD1D05A4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53C-F4FF-4F07-8097-BC4A9C34E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EB7B-0AE2-4D8A-B8B1-7099FA93B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6FEF-8F6D-4BE6-96C8-22DEBDD7C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9917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6902-1A8A-4B7B-B93E-ECC8FC285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04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B43B-B195-4561-9F20-0677F9B02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4DE2-2122-476A-8F37-05CDA3E67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BDF7-6BC4-4D79-843E-02A0638A0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B9C4-7AAA-4532-B229-409451B8E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E46B2-EBA8-4CFA-903E-753DF1F0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EADA3-12F4-4554-AC24-2161485C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62BBD-0F28-4ABB-8AC2-3261E4E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FA1DD-190E-4CF1-A62A-90047FC6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6DAAE-261C-47C4-A519-F51E5E97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88D4C-AAFD-4639-BFFC-3A13A28F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E8993-3F9B-43D8-A249-636BB5B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D3F0-590F-4052-9A94-EEE9565EF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5917C-2226-4864-9EE4-2CF5CB33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93C1F-18A3-4E2C-B829-A76F9D7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9ADE8-EE78-49B1-849B-4F9FA36A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AF7F-D98A-40D2-9A54-F0B3AE87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F6B3A-2BE7-4D13-8B30-FB25356F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420E-CBC9-4B90-B7CD-D2255E8A8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F514-E046-4177-A8BA-3749D81CF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643B-2DE2-4B53-9E80-D733AA03E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3371-6D4E-4300-B52C-42E6D1ACB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53AD-2DC2-4FF0-9380-1CF5841D1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75D8-29E9-461A-872A-A9D45B885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3AC3-1411-4F51-A845-170EC6D21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EC2-C2C4-400C-BC9A-8A2AEAD94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B62-4052-480D-8E44-475B26DBC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858000" cy="2819520"/>
          </a:xfrm>
          <a:prstGeom prst="rect">
            <a:avLst/>
          </a:prstGeom>
          <a:solidFill>
            <a:srgbClr val="ffff99"/>
          </a:solidFill>
          <a:ln w="7632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RYSC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op 10 List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or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aking Home Vis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guest_house"/>
          <p:cNvPicPr/>
          <p:nvPr/>
        </p:nvPicPr>
        <p:blipFill>
          <a:blip r:embed="rId1"/>
          <a:stretch/>
        </p:blipFill>
        <p:spPr>
          <a:xfrm>
            <a:off x="3352680" y="3429000"/>
            <a:ext cx="2438640" cy="1828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nect with the Famil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purpose of the ce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upcoming activities/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a personal invitation to visit the school and th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participation/parental invol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m know they are important and you valu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nect with the Family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purpose for the vis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Referral from faculty/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ovide opportunities for feedback/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ffer services/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Get consent forms 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chedule follow-up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ffer to meet at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lways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d your visit on a positive no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f you don’t accomplish anything else . . 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80" y="8377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sure that the parent/ guardian knows that YOU value and respect them and you want to support them in their r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fety First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w out gracefully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omeone is under the influ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mestic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amily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gry Behav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unding fists/pointing fingers, cursing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llow your instin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And Now …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icrosoft Sans Serif"/>
              </a:rPr>
              <a:t>The FRYS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icrosoft Sans Serif"/>
              </a:rPr>
              <a:t>Top 10 L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icrosoft Sans Serif"/>
              </a:rPr>
              <a:t>For Home Vis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10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gas tank is FU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gas%20pump"/>
          <p:cNvPicPr/>
          <p:nvPr/>
        </p:nvPicPr>
        <p:blipFill>
          <a:blip r:embed="rId1"/>
          <a:stretch/>
        </p:blipFill>
        <p:spPr>
          <a:xfrm>
            <a:off x="3048120" y="1447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95680" y="1295280"/>
            <a:ext cx="4305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cell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razr_phone"/>
          <p:cNvPicPr/>
          <p:nvPr/>
        </p:nvPicPr>
        <p:blipFill>
          <a:blip r:embed="rId1"/>
          <a:stretch/>
        </p:blipFill>
        <p:spPr>
          <a:xfrm>
            <a:off x="1905120" y="2514600"/>
            <a:ext cx="309564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4876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 with someone at the center/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front%2520office-gene%2520and%2520carole"/>
          <p:cNvPicPr/>
          <p:nvPr/>
        </p:nvPicPr>
        <p:blipFill>
          <a:blip r:embed="rId1"/>
          <a:stretch/>
        </p:blipFill>
        <p:spPr>
          <a:xfrm>
            <a:off x="2590920" y="1219320"/>
            <a:ext cx="430524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4305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dent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enum07l"/>
          <p:cNvPicPr/>
          <p:nvPr/>
        </p:nvPicPr>
        <p:blipFill>
          <a:blip r:embed="rId1"/>
          <a:stretch/>
        </p:blipFill>
        <p:spPr>
          <a:xfrm>
            <a:off x="5638680" y="1447920"/>
            <a:ext cx="252252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nformation/pamphlet about the center and upcom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bh12"/>
          <p:cNvPicPr/>
          <p:nvPr/>
        </p:nvPicPr>
        <p:blipFill>
          <a:blip r:embed="rId1"/>
          <a:stretch/>
        </p:blipFill>
        <p:spPr>
          <a:xfrm>
            <a:off x="2895480" y="2971800"/>
            <a:ext cx="3175200" cy="3174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Make Home Visits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in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RS 156.497 Section 3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New Students and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on Refer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– To develop a partnership between the school and the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as Teac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AT Vis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contac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usiness-card-holder"/>
          <p:cNvPicPr/>
          <p:nvPr/>
        </p:nvPicPr>
        <p:blipFill>
          <a:blip r:embed="rId1"/>
          <a:stretch/>
        </p:blipFill>
        <p:spPr>
          <a:xfrm>
            <a:off x="2666880" y="2971800"/>
            <a:ext cx="381024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47239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 to have quick access to le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gran1"/>
          <p:cNvPicPr/>
          <p:nvPr/>
        </p:nvPicPr>
        <p:blipFill>
          <a:blip r:embed="rId1"/>
          <a:srcRect l="5777" t="0" r="0" b="0"/>
          <a:stretch/>
        </p:blipFill>
        <p:spPr>
          <a:xfrm>
            <a:off x="2590920" y="1371600"/>
            <a:ext cx="37242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305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 yourself so you have quick and easy access to the d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FrontDoorOfTrailer"/>
          <p:cNvPicPr/>
          <p:nvPr/>
        </p:nvPicPr>
        <p:blipFill>
          <a:blip r:embed="rId1"/>
          <a:stretch/>
        </p:blipFill>
        <p:spPr>
          <a:xfrm>
            <a:off x="4419720" y="1905120"/>
            <a:ext cx="4305240" cy="3228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5680" y="2514600"/>
            <a:ext cx="4305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dawg bone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ot the Rottweil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rottweiler"/>
          <p:cNvPicPr/>
          <p:nvPr/>
        </p:nvPicPr>
        <p:blipFill>
          <a:blip r:embed="rId1"/>
          <a:stretch/>
        </p:blipFill>
        <p:spPr>
          <a:xfrm>
            <a:off x="304920" y="15238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Number 1 . . 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en to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00"/>
                </a:solidFill>
                <a:latin typeface="Verdana"/>
              </a:rPr>
              <a:t>INSTINCT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85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385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385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385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he E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guest_house"/>
          <p:cNvPicPr/>
          <p:nvPr/>
        </p:nvPicPr>
        <p:blipFill>
          <a:blip r:embed="rId1"/>
          <a:stretch/>
        </p:blipFill>
        <p:spPr>
          <a:xfrm>
            <a:off x="3048120" y="2057400"/>
            <a:ext cx="3295440" cy="2471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 Familiar With Your Distri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ut your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your neighborhoo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using Projects, Subdivision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omeone famili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PP, Advisory Council Memb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map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ber of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y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ps to Go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ress appropriately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heck ou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Before you leave, alert someone of your destination and expected arrival time back to the cen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If referral warrants, take another pers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eacher, DPP, assistant, etc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Always listen to your intui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o know before you g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with school faculty/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w student from another school, contact the previous FRY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C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ousehold members/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ance/Tar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date health/enrollm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/Reduced Me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with other agencies fo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&amp;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- Family Support   -- Police D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o Take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#, Address and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pertaining to your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rds/Pamphlets/Door 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CHIP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Income Forms (Free/Redu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to Go: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d Home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nnounced Home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ated home visit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every Thursday or the second Tuesday of every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pon Arrival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 vehicle for quick and easy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ogs or other animals approach, blow your horn so someone can come out to call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your surrou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knocking on door, stand to one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/Sit to have a quick, easy ex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to your instin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4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4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4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4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3049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identif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chool badge, business 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ile and make eye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ke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begin your conversation with positiv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3:10:27Z</dcterms:created>
  <dc:creator>dodonnell</dc:creator>
  <dc:description/>
  <dc:language>en-US</dc:language>
  <cp:lastModifiedBy>Tammy S. Gay</cp:lastModifiedBy>
  <dcterms:modified xsi:type="dcterms:W3CDTF">2014-07-24T00:38:03Z</dcterms:modified>
  <cp:revision>23</cp:revision>
  <dc:subject/>
  <dc:title>PPTHomeVisitsFY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B59A03E56A4F54189F82CFEF2FE82B7</vt:lpwstr>
  </property>
  <property fmtid="{D5CDD505-2E9C-101B-9397-08002B2CF9AE}" pid="3" name="Order">
    <vt:lpwstr>5600.00000000000</vt:lpwstr>
  </property>
  <property fmtid="{D5CDD505-2E9C-101B-9397-08002B2CF9AE}" pid="4" name="TemplateUrl">
    <vt:lpwstr/>
  </property>
  <property fmtid="{D5CDD505-2E9C-101B-9397-08002B2CF9AE}" pid="5" name="_SharedFileIndex">
    <vt:lpwstr/>
  </property>
  <property fmtid="{D5CDD505-2E9C-101B-9397-08002B2CF9AE}" pid="6" name="_SourceUrl">
    <vt:lpwstr/>
  </property>
  <property fmtid="{D5CDD505-2E9C-101B-9397-08002B2CF9AE}" pid="7" name="xd_ProgID">
    <vt:lpwstr/>
  </property>
  <property fmtid="{D5CDD505-2E9C-101B-9397-08002B2CF9AE}" pid="8" name="xd_Signature">
    <vt:lpwstr/>
  </property>
</Properties>
</file>