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080" y="685800"/>
            <a:ext cx="47754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89917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5323-AACC-4C0E-ADF1-8F1C0C31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BF62-E358-413D-ADE4-FAD5F0310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6CA-C015-42BC-B6B1-4DDDB5E0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B390-8708-4DFC-90B9-A2AF72926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132-52E6-4408-8F42-2FA7783D0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BA9-6755-4AD4-9BCA-B7245968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2EA5-D37F-457F-9BD6-AA4DDABF4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12C9-C35F-440B-A08D-F2316F39B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D796-A35A-41ED-BAE5-736E1BDC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1939-855D-453B-834C-087285525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34F-7D96-4391-9D95-763353C0E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7E78-8291-403C-9C55-E3500565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A8CC-89A4-4E59-B9AB-561AA3B0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788-7240-4136-89FD-EB2862AA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F39C-28AD-4965-BDFB-D4A36721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0608-CE65-4D0F-8E3D-8480A9A19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145C-83B4-4F89-BA14-A23E49212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FAAC-D28D-4D70-9E61-24387ECE0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BFFC-AC98-420F-8B62-BB119861E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F03A-556F-45F6-88F5-8C84EDD84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A1F0-C9CE-4D52-ACE1-7B8C98E7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48E-3338-4C7A-9EBE-74EBB7B0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6C31-A667-40FE-93EA-137A7811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79E9-CB71-45E2-9E57-D4CD601B0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2E2F-C0D0-431F-B962-D8DD4335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2F24-8001-4971-B0F6-0D0A2598D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0C13-45B3-4749-A6D0-60D668ABF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4D69-70BF-47A2-BE09-71F9DD8A9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4A21-96E3-40E5-B0E8-122EDB5D9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E513C-47B8-44E5-BEB8-576E7969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EBB1E-98A0-41D1-90C3-22A7032D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41FC5-149F-4A53-AD24-F0F7D832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93EE3-A974-4C0D-8E54-760ACFF2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00605-EDE8-46E2-BA4D-A7CD4F3D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4E2AC-88EB-4150-BEE1-5EB6C47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3D59-0E43-4786-9BAE-17CDABE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C3C3-F327-45A6-931C-C7F882183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63FAD-2A9F-4AE8-BF4E-310EFF6D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EEB54-FCB9-4981-B097-B85A9C18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95E21-A333-4511-BE1A-0D9DB94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A5DD6-EABB-472F-A440-FB938634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7D6A9-DEB8-4FEB-BBB2-75F9B2EA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2C4D-27FB-47FF-9E94-606F9BAA1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46A2-302D-4297-AA29-83C13BCFE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97E5-48AD-4A57-A459-5D1826239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342A-8AC3-41B5-8D8B-C40B4CBB6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4940-C09D-409E-A06B-BC6383B2B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87E9-7DDC-4ECC-A45C-CF6DFFB52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596D-48B5-4968-A22B-861D2AD1B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FE4D-B6CF-4034-9D42-D78B4346D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8545-7E41-4D9A-A54F-DE519BB39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858000" cy="2819520"/>
          </a:xfrm>
          <a:prstGeom prst="rect">
            <a:avLst/>
          </a:prstGeom>
          <a:solidFill>
            <a:srgbClr val="ffff99"/>
          </a:solidFill>
          <a:ln w="7632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RYSC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op 10 List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or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king Home Vis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guest_house"/>
          <p:cNvPicPr/>
          <p:nvPr/>
        </p:nvPicPr>
        <p:blipFill>
          <a:blip r:embed="rId1"/>
          <a:stretch/>
        </p:blipFill>
        <p:spPr>
          <a:xfrm>
            <a:off x="3352680" y="3429000"/>
            <a:ext cx="2438640" cy="1828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nect with the Famil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purpose of the c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upcoming activities/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a personal invitation to visit the school and th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participation/parental invol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m know they are important and you valu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nect with the Family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purpose for the vis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Referral from faculty/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ovide opportunities for feedback/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ffer services/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Get consent forms 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chedule follow-up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ffer to meet at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d your visit on a positive no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you don’t accomplish anything else . . 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80" y="8377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sure that the parent/ guardian knows that YOU value and respect them and you want to support them in their r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fety First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w out gracefully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omeone is under the infl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mestic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amily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gry Behav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unding fists/pointing fingers, cursing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llow your instin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And Now …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icrosoft Sans Serif"/>
              </a:rPr>
              <a:t>The FRYS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icrosoft Sans Serif"/>
              </a:rPr>
              <a:t>Top 10 L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icrosoft Sans Serif"/>
              </a:rPr>
              <a:t>For Home Vis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10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gas tank is FU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gas%20pump"/>
          <p:cNvPicPr/>
          <p:nvPr/>
        </p:nvPicPr>
        <p:blipFill>
          <a:blip r:embed="rId1"/>
          <a:stretch/>
        </p:blipFill>
        <p:spPr>
          <a:xfrm>
            <a:off x="3048120" y="1447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95680" y="1295280"/>
            <a:ext cx="4305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cell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razr_phone"/>
          <p:cNvPicPr/>
          <p:nvPr/>
        </p:nvPicPr>
        <p:blipFill>
          <a:blip r:embed="rId1"/>
          <a:stretch/>
        </p:blipFill>
        <p:spPr>
          <a:xfrm>
            <a:off x="1905120" y="2514600"/>
            <a:ext cx="309564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with someone at the center/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front%2520office-gene%2520and%2520carole"/>
          <p:cNvPicPr/>
          <p:nvPr/>
        </p:nvPicPr>
        <p:blipFill>
          <a:blip r:embed="rId1"/>
          <a:stretch/>
        </p:blipFill>
        <p:spPr>
          <a:xfrm>
            <a:off x="2590920" y="1219320"/>
            <a:ext cx="430524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4305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dent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enum07l"/>
          <p:cNvPicPr/>
          <p:nvPr/>
        </p:nvPicPr>
        <p:blipFill>
          <a:blip r:embed="rId1"/>
          <a:stretch/>
        </p:blipFill>
        <p:spPr>
          <a:xfrm>
            <a:off x="5638680" y="1447920"/>
            <a:ext cx="25225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formation/pamphlet about the center and upcom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bh12"/>
          <p:cNvPicPr/>
          <p:nvPr/>
        </p:nvPicPr>
        <p:blipFill>
          <a:blip r:embed="rId1"/>
          <a:stretch/>
        </p:blipFill>
        <p:spPr>
          <a:xfrm>
            <a:off x="2895480" y="297180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Make Home Visits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in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RS 156.497 Section 3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New Students and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on Refer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– To develop a partnership between the school and the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as Teac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T Vis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ontac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usiness-card-holder"/>
          <p:cNvPicPr/>
          <p:nvPr/>
        </p:nvPicPr>
        <p:blipFill>
          <a:blip r:embed="rId1"/>
          <a:stretch/>
        </p:blipFill>
        <p:spPr>
          <a:xfrm>
            <a:off x="2666880" y="2971800"/>
            <a:ext cx="381024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47239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 to have quick access to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gran1"/>
          <p:cNvPicPr/>
          <p:nvPr/>
        </p:nvPicPr>
        <p:blipFill>
          <a:blip r:embed="rId1"/>
          <a:srcRect l="5777" t="0" r="0" b="0"/>
          <a:stretch/>
        </p:blipFill>
        <p:spPr>
          <a:xfrm>
            <a:off x="2590920" y="1371600"/>
            <a:ext cx="37242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305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 yourself so you have quick and easy access to the d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FrontDoorOfTrailer"/>
          <p:cNvPicPr/>
          <p:nvPr/>
        </p:nvPicPr>
        <p:blipFill>
          <a:blip r:embed="rId1"/>
          <a:stretch/>
        </p:blipFill>
        <p:spPr>
          <a:xfrm>
            <a:off x="4419720" y="1905120"/>
            <a:ext cx="4305240" cy="3228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680" y="2514600"/>
            <a:ext cx="4305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dawg bone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t the Rottweil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rottweiler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Number 1 . . 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en to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00"/>
                </a:solidFill>
                <a:latin typeface="Verdana"/>
              </a:rPr>
              <a:t>INSTINCT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85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385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385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385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he E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guest_house"/>
          <p:cNvPicPr/>
          <p:nvPr/>
        </p:nvPicPr>
        <p:blipFill>
          <a:blip r:embed="rId1"/>
          <a:stretch/>
        </p:blipFill>
        <p:spPr>
          <a:xfrm>
            <a:off x="3048120" y="2057400"/>
            <a:ext cx="3295440" cy="2471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 Familiar With Your Distri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ut your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your neighborhoo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using Projects, Subdivision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omeone famili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PP, Advisory Council Memb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map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ber of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y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ps to Go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ress appropriately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heck 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Before you leave, alert someone of your destination and expected arrival time back to the cen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f referral warrants, take another pers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eacher, DPP, assistant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Always listen to your intui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o know before you g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with school faculty/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w student from another school, contact the previous FRY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C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ousehold members/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ance/Tar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date health/enrollm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/Reduced Me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with other agencies fo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&amp;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- Family Support   -- Police D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o Take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#, Address and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pertaining to your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rds/Pamphlets/Door 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CHIP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Income Forms (Free/Redu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to Go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d Home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nounced Home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ated home visit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every Thursday or the second Tuesday of every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pon Arrival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 vehicle for quick and easy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ogs or other animals approach, blow your horn so someone can come out to call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your surrou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knocking on door, stand to one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/Sit to have a quick, easy ex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to your instin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4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4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4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4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identif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chool badge, business 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le and make eye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begin your conversation with positiv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3:10:27Z</dcterms:created>
  <dc:creator>dodonnell</dc:creator>
  <dc:description/>
  <dc:language>en-US</dc:language>
  <cp:lastModifiedBy>Tammy S. Gay</cp:lastModifiedBy>
  <dcterms:modified xsi:type="dcterms:W3CDTF">2014-07-24T00:38:03Z</dcterms:modified>
  <cp:revision>23</cp:revision>
  <dc:subject/>
  <dc:title>PPTHomeVisitsFY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B59A03E56A4F54189F82CFEF2FE82B7</vt:lpwstr>
  </property>
  <property fmtid="{D5CDD505-2E9C-101B-9397-08002B2CF9AE}" pid="3" name="Order">
    <vt:lpwstr>5600.00000000000</vt:lpwstr>
  </property>
  <property fmtid="{D5CDD505-2E9C-101B-9397-08002B2CF9AE}" pid="4" name="TemplateUrl">
    <vt:lpwstr/>
  </property>
  <property fmtid="{D5CDD505-2E9C-101B-9397-08002B2CF9AE}" pid="5" name="_SharedFileIndex">
    <vt:lpwstr/>
  </property>
  <property fmtid="{D5CDD505-2E9C-101B-9397-08002B2CF9AE}" pid="6" name="_SourceUrl">
    <vt:lpwstr/>
  </property>
  <property fmtid="{D5CDD505-2E9C-101B-9397-08002B2CF9AE}" pid="7" name="xd_ProgID">
    <vt:lpwstr/>
  </property>
  <property fmtid="{D5CDD505-2E9C-101B-9397-08002B2CF9AE}" pid="8" name="xd_Signature">
    <vt:lpwstr/>
  </property>
</Properties>
</file>